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461-0E58-4161-9E12-2801ED404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2F4-5F65-47D5-BC4C-14C6DDD99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FF7-2475-4CAD-A112-146F9AE76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FA948-3C5A-41AD-BE1D-FC7C920C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7E3CD-C5A6-4455-AA30-7EEC660D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67C7-67A6-4211-AB7B-91E53736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B8B4-A714-479B-948D-A538A63E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CB83-7873-4573-8314-61E09FB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EA1D6-AFBC-4D9C-ABC4-DBBA0A2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68D0-B0AB-44FD-926C-4DC4A15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9146-2B2F-4D2F-BE4F-7C3F04E0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B8E1-E3DF-4CD4-9755-B4C1D80B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FC612-F872-49D5-BE88-692724A8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D4A67-D257-4E6E-B3F6-7E46552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1279B-665C-41A0-B95A-30C30C0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89282-8EEB-4AB5-A1BD-3730E95A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A5EE0-2A40-45AF-AD07-D61A6251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F2340-FAB9-4486-B515-95A4C1BE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2BFE5-DFD7-41ED-90A8-1B35CA7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CB4FF-8EC0-47C6-A9E4-51898979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BE5E1-A1CB-404D-8193-27D362E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A41A5-8506-426E-8345-1268833B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246D3-12C5-4D57-93B8-C6CC284E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E16BD-8F09-4632-BA0A-1939E3EA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DF07A-A4BF-4B2A-8765-5F852E47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AEE84-A9B2-4543-B060-F420FD7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A4237-B8CB-4C7B-98F8-BE4D3679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9A774-ED9D-447C-8E94-8418D54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DFDD-4AF0-4812-851B-360A68BB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BCE99-A5FC-4989-9F76-C1F9F188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61D25-3C31-4AC0-8B7D-8DDC554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25DD5-F992-4C52-8C88-4E9B3E4B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131E-9842-4027-8EDA-F259783D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317-1431-4297-BB6E-19FC6AE7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E0538-B848-4BB7-AF91-2DDDC8E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47D42-8BD8-4EAC-8049-F6CCFC5C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1B4B0-5288-43DD-A5AB-6CFA1D6D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A573D-DBDB-4BBD-8853-62F2252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EE0D6-0551-428C-BF72-A0B3DF1F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819D-EA3C-4563-9366-B622F89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88AA4-5F26-42A4-A8E2-E4F6EAF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7D43D-5D80-4BFC-9D6D-9A03B81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85C1D-BDDA-46F4-9C90-FDA00E60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69802-ECBC-4BFF-BBB6-8CE2B731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D3B-5C52-47DD-8958-9D8EC860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A73A8-22EF-4AFB-A9D1-FE17564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DEDA4-7E16-42C5-88A4-9798524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CF785-B78E-4ED4-89FD-E440366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2A64D-A406-4EBC-AF62-0E60F99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A3A1A-7A13-423B-92E8-E445F69B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5CB-3C46-45BB-9370-8677342B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EEC-55AD-4EF1-AA2B-32ABE871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932-6519-4E2D-8F68-161CB33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E61-93AA-4433-9A2E-A3DE0FA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C5F-CF8E-4531-93B0-C4961CF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01A-DDDD-49C0-8BE8-756B6EC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982-7FEB-4231-BB42-E073BA1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22D-B375-44D0-BEBB-88AF6972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EF1-E120-4B9B-B865-3527CEAE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E76-7257-4D24-80C4-852F583B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D4D-182F-4FEE-A052-BB6AE38D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DF2-0FE3-471A-9A4F-0C88AA3A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C844-137E-4C06-B8FD-0600BC95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1D40-F1F1-4665-BB73-C2A4C69A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AFFA-A1EF-496A-8098-CA407A1E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0452-55DA-461C-B47A-1609E8AA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79D-EC49-4CFC-BAE4-62F5FE66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909-9E36-4603-B377-3317260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19C3-FF1D-4274-9E21-9EE56A54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70C-2BE8-49EE-826D-A8EE5C43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F74-10F7-4E77-8CA1-803F1A4B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4F43-2CB1-414F-985B-3AC57D41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ACFB-DB02-4040-9750-13A9AA39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6EC5-312E-4B85-9C95-81F7FF49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E2F8F-AE1C-406A-8C86-5A1AC6A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0FB5-33EE-44AF-ABF0-EAE7963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B902-24D4-4146-88CA-F1C1898C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0C0D-099D-46FD-B7B2-23A7B7A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9FEF-6710-4B7D-A87B-0FA3893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9FDC-8E7E-4947-9593-8FD78618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2A2E6-93BB-47D2-BB81-44FE76B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BEF1-5565-4F9A-A9F0-852B60EF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1F3DE-8E16-4BA8-980B-0CBFFDAD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925F-9870-44F2-B74B-8E12FB8D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DD89-D4C3-4C04-B2DC-1683AF7B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6008-C0BF-4BA9-963D-69C81A3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772B-7448-4E6E-9A74-2564733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ED0D-A405-4FED-BCFE-3C64C3B1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9193-3D8B-494C-8C47-E717AB55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4211-08BE-4AF1-8917-9AC6E1B1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2CF0-D432-476D-8F16-89840A4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F0C1-191D-40EB-BDB6-6D9CE62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8EC4-E9B9-4422-99D6-E91D4DA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1545-B162-4913-AC04-EF594F4E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3853E-54E1-417C-A40E-563D5640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E687-1F7C-4266-A898-EB91DD52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7405-4992-417E-9801-35645CA8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52959-4C72-492F-A121-1DFED796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D3BF-BD79-4055-A00F-AEE0CEE5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01617-B395-4140-9878-A762929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0C9E-2A64-41C8-9881-57F717E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51FF6-7364-44C1-975B-5EBC3CBB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F17A-1AD7-4D58-8BFE-2BE46FC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5588-B4EF-45CC-830B-1E88C89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628D-AF07-4C55-9706-BF91D81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FD7A-32CD-4B8A-A2AD-3167A560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0818-D425-4338-8FFD-A607D30E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ED074-04D5-4001-9E48-3332239D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0B811-A4E9-42B6-BD44-1758D35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A7FD-EA7E-4FF1-B60A-184E5389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768B-96C8-46D6-844A-F036F28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2139-3509-40F8-BA53-7B6E2CEB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7D6A-38AD-4BD3-B4BD-652A87B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460A-CDC2-4D0E-A90C-67F90EE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AAD7D-5064-4ABA-9B33-AD21ABC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A016E-17F4-4B0F-8B2C-D58B81BD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0CA31-E20C-4AE2-A355-D01B163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09EB6-9EBD-4531-B8FC-706DB0D8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9094-EA45-414C-9F54-B27B2332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FDAF3-9B27-43B9-826D-66023CDB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56B29-1E73-429E-BA7C-773F885C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538EC-C291-4C5C-86DD-AACBF86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F74B-95E3-47C6-BFBA-0108B53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0484-DA9C-4E10-8C62-CE23F394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F993-407F-4937-B588-077D9CB2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B2EC-9378-40C3-A698-6E1FFC9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4EA60-6405-4C67-971B-E32E5139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25B2-74C8-4C1B-A82B-EE8BA26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27BE2-CAB1-42C4-8FE6-C35FF40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B6EB-C73E-42A0-A484-78BCB38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17044-B40D-4AD2-BFBD-F9C446CF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F963D-D053-4D7C-B381-BDCA77E1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A972-7F66-4263-88E8-A9AE2E07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06B17-4445-4C5D-8BEF-C28659A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5020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123F-3429-4173-B47B-7FE0762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E92-706A-43F1-B425-CC5FB52385E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FB8-78BA-4E2A-B2E0-F41DE978B3E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F641-2A98-4E1F-9B35-536B873E8C3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1AB-C483-4C0F-BBFC-5F02B5E7708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0E2-886A-443D-8F18-E0B74F9A1F8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19E-95AA-4878-A5DF-513EE646D39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68ED-9038-4DDC-B001-026A9076DC7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0607-450A-45BD-9F27-B9CE858B6B0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F09F-BC50-410A-B85D-D4E2D34B760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4465-EAEB-43B6-8759-2C6B2E316B3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A3AA-771F-45EC-9EF6-5C87E649D10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428480" y="2071440"/>
            <a:ext cx="642924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700" spc="-1" strike="noStrike">
                <a:solidFill>
                  <a:srgbClr val="898989"/>
                </a:solidFill>
                <a:latin typeface="Arial"/>
                <a:ea typeface="Arial"/>
              </a:rPr>
              <a:t>The never-ending battle: How do I get larger elective classes?</a:t>
            </a:r>
            <a:endParaRPr b="0" lang="en-US" sz="37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1042920" y="3789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sented by Alicia Hoy and Victoria Bro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7 German 2010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Bremen Town Musicians pla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ood Incursion end of Year 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retzels ordered and baked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he French kitchen profiteroles, brie, baguet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All Year 7 and 8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n 2011, All Year 7, 8 classes Language Perfect World Championship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8 German 2011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ake competi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German club (film competition)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ood excurs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2857320" cy="2448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C:\Users\axh\Pictures\Car-Lover-Cupcakes.jpg"/>
          <p:cNvPicPr/>
          <p:nvPr/>
        </p:nvPicPr>
        <p:blipFill>
          <a:blip r:embed="rId2"/>
          <a:stretch/>
        </p:blipFill>
        <p:spPr>
          <a:xfrm>
            <a:off x="3924360" y="3738600"/>
            <a:ext cx="4889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8 Fren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‘</a:t>
            </a: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arrot’ to be videod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lashcards – 2 siz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rench club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ood excurs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Senior Class Cul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Relationship is the ke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nspiring a love of the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Exchange opportun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SW Governor-General’s Australia-Germany scholarship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ACEL have come to address our school with many students attending and making plans for exchange from end of Year 9 for France and German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outhern Cross to Franc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New Initia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Identiti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rench Club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Different approach to teach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eaching for Understand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ou are it!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ou are the face of your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700360" y="2498760"/>
            <a:ext cx="52498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Introduc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Victoria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icia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1 minute ‘Vent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1681200" y="21337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William Clarke in Contex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orth-west Sydney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No ESL programme, so they learn their 1</a:t>
            </a:r>
            <a:r>
              <a:rPr b="0" lang="en-AU" sz="3200" spc="-1" strike="noStrike" baseline="30000">
                <a:solidFill>
                  <a:srgbClr val="595959"/>
                </a:solidFill>
                <a:latin typeface="Calibri"/>
              </a:rPr>
              <a:t>st</a:t>
            </a: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 and perhaps only languag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K-10 Japanese, 5-12 French and German on a biannual offer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ear 9, only 2 electives chosen. Choose by June. Min. 10 students for a clas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ear 11, min. 5 students for a class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5 and 6 – Picnic Da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Whole unit based around a cumulative event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Event given as a ‘carrot’ at the beginning of the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l activities/lessons add a new piece to the puzzle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All activities geared towards the event. Eg. invitations, food, activities at the picnic, items to bri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Final lesson was the Picnic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ashion Parade</a:t>
            </a: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imilar to the Picnic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tudents divided into teams at the beginning of the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tudents empowered through choice of clothing and song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lassroom set up as ‘catwalk’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resentation in final less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Family Powerpo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Limited number of family members: 5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Each lesson included a new concept to include to describe family member. Name, relationship, description of personality.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Gave students five weeks warning before starting this unit to start organising digital photos.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Whole lesson on presentations. Writing and Speaking skill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All-round fun – student feedback</a:t>
            </a: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Toothbrush assessmen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You-tube clips for Festivals uni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Puzzles of map of Germany and Franc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Quizzes in clas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Schnappi, Alouett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Garamond"/>
              </a:rPr>
              <a:t>Year 7 French 2011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12 month project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hoose character and choose your own adventur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alibri"/>
              </a:rPr>
              <a:t>Cultural elements and learning from classroom included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0:11:55Z</dcterms:created>
  <dc:creator>bgs</dc:creator>
  <dc:description/>
  <dc:language>en-US</dc:language>
  <cp:lastModifiedBy>William Clarke College</cp:lastModifiedBy>
  <dcterms:modified xsi:type="dcterms:W3CDTF">2012-05-18T01:36:29Z</dcterms:modified>
  <cp:revision>45</cp:revision>
  <dc:subject/>
  <dc:title>ABW</dc:title>
</cp:coreProperties>
</file>